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8DCC-33A5-4444-BD3B-933EB006E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DEDB-69CC-40DA-A73F-253A60872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E19B-9CF8-4445-8A95-DA6A5F6D6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EC64-D521-4C95-ADB5-6A8E0E727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3362C-1F26-44DC-832F-3C8A2ED7E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469F5-BBA5-4B76-93C4-CDB8794A8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2A524-7D4D-4BE3-A32F-56FBF9B79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BFC86-0C0A-4553-8B4C-3F547ADEE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E0E77-7F12-47FE-88CA-72F6FB762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6D396-8585-46E4-9DC0-728DC46DD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3873D-6E22-48C8-ADC1-05F63F47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2871-3840-422E-B868-32775C249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D9AC4-A6F9-4584-9D3E-7C8D9B36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B4BDC-2FAF-4FFE-8D2C-DD370F06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884CB-24BD-4858-958F-AF21FF990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FE6BE-135D-4CA7-BAC5-7E2B026AD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3F856-B230-4C5A-9B15-61ADE4598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5F8E-D20F-4730-AAA6-E6B898046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0972-9B3B-49F3-8DED-66FBEBA6E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347E-E678-4F15-A794-1CA684023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73BD-CD93-4441-B069-5B8E995A8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F637-DEC3-454F-9633-45364832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7717-EBE0-4209-97C5-F17AF62F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12EE-63E7-4A59-ADA6-19F7933D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455DC-25E1-4AD2-8A71-DD64FB6F1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35DD5-886B-42AD-B5C5-431AC0EA1D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73240" y="457200"/>
            <a:ext cx="7772400" cy="13716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1e1b7"/>
                </a:solidFill>
                <a:latin typeface="Times New Roman"/>
              </a:rPr>
              <a:t>Anexo 4 - Plantão Psicológico em Escola</a:t>
            </a:r>
            <a:br>
              <a:rPr sz="2800"/>
            </a:br>
            <a:r>
              <a:rPr b="1" lang="en-US" sz="2800" spc="-1" strike="noStrike">
                <a:solidFill>
                  <a:srgbClr val="e1e1b7"/>
                </a:solidFill>
                <a:latin typeface="Times New Roman"/>
              </a:rPr>
              <a:t>Fase de Sensibilização </a:t>
            </a:r>
            <a:br>
              <a:rPr sz="2800"/>
            </a:br>
            <a:r>
              <a:rPr b="1" lang="en-US" sz="2800" spc="-1" strike="noStrike">
                <a:solidFill>
                  <a:srgbClr val="e1e1b7"/>
                </a:solidFill>
                <a:latin typeface="Times New Roman"/>
              </a:rPr>
              <a:t>reunião com os professores e funcionári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8" name="Alencastro%20professores" descr=""/>
          <p:cNvPicPr/>
          <p:nvPr/>
        </p:nvPicPr>
        <p:blipFill>
          <a:blip r:embed="rId1"/>
          <a:stretch/>
        </p:blipFill>
        <p:spPr>
          <a:xfrm>
            <a:off x="2057400" y="1981080"/>
            <a:ext cx="6095880" cy="45720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</p:pic>
      <p:sp>
        <p:nvSpPr>
          <p:cNvPr id="129" name=""/>
          <p:cNvSpPr/>
          <p:nvPr/>
        </p:nvSpPr>
        <p:spPr>
          <a:xfrm>
            <a:off x="8458200" y="2286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11:05:20Z</dcterms:created>
  <dc:creator>Rodrigo Tassinari de Oliveira</dc:creator>
  <dc:description/>
  <dc:language>en-US</dc:language>
  <cp:lastModifiedBy>Rodrigo Tassinari de Oliveira</cp:lastModifiedBy>
  <cp:lastPrinted>1999-11-08T12:19:15Z</cp:lastPrinted>
  <dcterms:modified xsi:type="dcterms:W3CDTF">1999-11-08T12:34:14Z</dcterms:modified>
  <cp:revision>3</cp:revision>
  <dc:subject/>
  <dc:title>Anexo 4 - Plantão Psicológico em Escola Fase de Sensibilização  reunião com os professores e funcionários</dc:title>
</cp:coreProperties>
</file>